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181F-B742-43FA-B801-7F8B55E56DA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7FF4-7AD9-445E-94ED-6D9C83109E6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8FA8-5CA5-4802-A380-4F09EEB25C6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6C34-4636-4EB1-8E2E-A9B3B7D7D3E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BBEF-7A62-4E39-A72E-55CE868162E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2935-F16C-4E6E-A583-12C76D742F2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5B0C-AB6E-4C87-B889-DDB6528691D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C6EA-2576-466A-AC2C-B4B808A2AE1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0AED-2922-4F0D-A53C-D1363BCE95D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1096-8BE9-4332-8552-6A2A71AD6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29BE-CBC2-44C5-9619-6F3C83CB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1618-3975-4871-B2DB-9084D8B0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16FB-1A93-4A89-AAA2-D5FC98EB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A3D4-3ACE-4535-BAE6-9AF8786D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4687-6086-499E-B101-CEDAEEBC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F097-17E4-45C0-AA75-96ADFF7D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400D-5C83-42AF-86CA-1B751ECF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116A-CC8E-4C43-98A0-CFAEAB7D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A7B6-5D66-438F-966A-7EB085F0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BFB0-4FF0-4D3C-9697-E7C08E42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BF6A-F847-43F3-AE08-5E3DA546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E637-4062-43D1-BAE8-9C5FECD1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0F09-0B43-476C-95B4-E3DE2419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3718-9A1D-4C89-9A0C-280DDCA5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B35B-5B58-47B3-A274-68CE4794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643B-7130-4A48-9050-2B013FE8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06AC2-AD06-46CA-A202-2D47C480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E02A8-23C9-48CF-A835-67D801E8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A58AF-DD44-4E61-A4D8-FFF6DB39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26955-F148-4CF6-8BCD-FA6AA76F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25290-FCE4-4F85-B371-2AC6BDBE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40E9-E4C8-449E-96A0-31DD2ACF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4E975-CB08-4CD9-AD36-01A42655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A486B-61B8-4DBE-84D2-FD4AD5AD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97A50-166D-4744-82D4-0EDB3CDE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53190-6AF4-446C-A6A9-D0192BDF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F1005-1455-4DFC-8918-ACE85D68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716E0-D970-4C0A-AB31-77444C8C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CAA17-6890-4A47-8341-3F9958D5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BDDF2-2F69-4460-9E42-1B8AC2A8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8F526-B4AB-4DA4-A8D9-7A10ED33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1704D-6231-436F-8059-B85492CC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641A-FB8B-4A84-B8DE-49B08D3A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81812-9447-4CFE-824A-40BEEC6D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B75DD-80C6-408C-971F-E75B4D7C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546DA-8DAB-48CE-AFD8-B21C8123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4BED1-C84D-4D2B-8D3F-B9E14FBF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D5C97-E125-4841-BB6D-CABADEEA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3018B-0F79-4360-96BA-D44C3F96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CB08D-221A-4D01-A5C0-84628774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B15D4-E6AB-4CF9-BFD2-AC916538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9C3A6-6185-4124-81FB-00D8D3EE3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9B821-C945-4ECE-BE5D-E6831348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5051-21FA-4497-9501-D37ECCEF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4F168-EF60-485B-8A47-B30C17E5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12AFD-13BF-4547-8ECE-454444F9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29D76-DA13-4F43-A1BF-46BA48A6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7E43B-857D-4DDF-BFF0-ECCA8F1F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565BA-EE31-4230-912B-1A3894BE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3E177-5FA0-49BA-951E-A8550BE5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9141F-C8DE-485B-93A8-D69224F4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30BB8-C701-4AD8-883D-3DBC6DB9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F6A3D-FC43-4B40-9581-69DEAB77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4EF9E-A895-4A11-8EFC-55948DEE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080A-1C15-4240-B1DB-44F005FA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567CC-00D1-4D79-820D-20DBE3BC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AD8E9-BFC8-4FAE-B2C1-8BC8B212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9B629-31F8-4CB6-B7BD-763BD6D7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4D2FB-12AA-4B52-B537-02D4D0FE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8A522-B812-4588-8112-FEB1E704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3E3C9-E30E-4871-BFD0-911DCD79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9CF5E-BC5F-48C7-885A-B87812F6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4131B-473C-471F-9409-9755DE6B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2BA2D-35CA-4BFA-B9A6-7B5A2F83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CEE1A-A340-43AF-B4CC-782EEC7A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18F7-5956-476F-B53F-0E4F207D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A2F2B-137F-4A1C-809D-68395004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6456C-EF07-468C-A135-5A41AC8C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DE304-AC63-47DD-8AA8-3EF845FD2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41C4-C28C-464E-9885-F369F512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7EDA-5AB0-4E7C-A6E6-6CFF5EFB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D861-E1EF-41C6-AEA5-392749011A79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5678-F79B-474B-86AF-7009A431BD7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3DEF-B124-4E36-95B6-C815F4AFC457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6109-6D9F-4AD6-AD84-EF38D6BDFDB7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91E7-689A-4C87-B8AA-86F8FDFBE6DC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D7F1-5C13-4EA2-809F-90823E5BD12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FC9F-FCC7-4F83-99C6-812815AAEC1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C32B-23B8-4DE2-A8C8-C7DE4477814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3A1B-161C-4060-B7D2-BC86051739B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C4AD-A270-418F-9DB7-536789E03F2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F1C6-9AE2-4059-955B-2674F7B54649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BF36-B0B4-42E3-86C2-4D0A25D7EF4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1055520" y="838080"/>
            <a:ext cx="9361800" cy="60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20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Janeiro de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334800" y="645336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7) – Em R$ B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Imagem 2" descr=""/>
          <p:cNvPicPr/>
          <p:nvPr/>
        </p:nvPicPr>
        <p:blipFill>
          <a:blip r:embed="rId1"/>
          <a:stretch/>
        </p:blipFill>
        <p:spPr>
          <a:xfrm>
            <a:off x="334800" y="1341360"/>
            <a:ext cx="1152216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334800" y="638172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PIB 2017 estimado de acordo com a Grade de Parâmetros da SPE/MF de 12/2017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34800" y="765000"/>
            <a:ext cx="1080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03 a 2017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Imagem 1" descr=""/>
          <p:cNvPicPr/>
          <p:nvPr/>
        </p:nvPicPr>
        <p:blipFill>
          <a:blip r:embed="rId1"/>
          <a:stretch/>
        </p:blipFill>
        <p:spPr>
          <a:xfrm>
            <a:off x="334800" y="1270080"/>
            <a:ext cx="115221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"/>
          <p:cNvSpPr/>
          <p:nvPr/>
        </p:nvSpPr>
        <p:spPr>
          <a:xfrm>
            <a:off x="119160" y="692280"/>
            <a:ext cx="11737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6, Novembro e Dezembro de 2017 e Acumulado no ano (2016 e 2017) – Em R$ milhões de dezembro/2017 (INPC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334800" y="638172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Imagem 1" descr=""/>
          <p:cNvPicPr/>
          <p:nvPr/>
        </p:nvPicPr>
        <p:blipFill>
          <a:blip r:embed="rId1"/>
          <a:stretch/>
        </p:blipFill>
        <p:spPr>
          <a:xfrm>
            <a:off x="0" y="1276200"/>
            <a:ext cx="1219212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3"/>
          <p:cNvSpPr/>
          <p:nvPr/>
        </p:nvSpPr>
        <p:spPr>
          <a:xfrm>
            <a:off x="299880" y="692280"/>
            <a:ext cx="1083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6, Novembro e Dezembro de 2017 e Acumulado no an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316080" y="6381720"/>
            <a:ext cx="36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Imagem 1" descr=""/>
          <p:cNvPicPr/>
          <p:nvPr/>
        </p:nvPicPr>
        <p:blipFill>
          <a:blip r:embed="rId1"/>
          <a:stretch/>
        </p:blipFill>
        <p:spPr>
          <a:xfrm>
            <a:off x="0" y="1297080"/>
            <a:ext cx="1219212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ESULTADO DO RG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7) – Em R$ Bilhões de dezembr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334800" y="6381720"/>
            <a:ext cx="352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Imagem 1" descr=""/>
          <p:cNvPicPr/>
          <p:nvPr/>
        </p:nvPicPr>
        <p:blipFill>
          <a:blip r:embed="rId1"/>
          <a:stretch/>
        </p:blipFill>
        <p:spPr>
          <a:xfrm>
            <a:off x="334800" y="1268280"/>
            <a:ext cx="115221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334800" y="638172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334800" y="765000"/>
            <a:ext cx="1080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umulado de Janeiro a Dezembro (2003 a 2017)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Em R$ B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Imagem 2" descr=""/>
          <p:cNvPicPr/>
          <p:nvPr/>
        </p:nvPicPr>
        <p:blipFill>
          <a:blip r:embed="rId1"/>
          <a:stretch/>
        </p:blipFill>
        <p:spPr>
          <a:xfrm>
            <a:off x="334800" y="1341360"/>
            <a:ext cx="1152216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263520" y="639936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PIB 2017 estimado de acordo com a Grade de Parâmetros da SPE/MF de 12/2017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263520" y="692280"/>
            <a:ext cx="114490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2003 a 20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Imagem 1" descr=""/>
          <p:cNvPicPr/>
          <p:nvPr/>
        </p:nvPicPr>
        <p:blipFill>
          <a:blip r:embed="rId1"/>
          <a:stretch/>
        </p:blipFill>
        <p:spPr>
          <a:xfrm>
            <a:off x="407880" y="1052640"/>
            <a:ext cx="1144908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334800" y="692280"/>
            <a:ext cx="1080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de Dezembr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0" y="64850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Imagem 1" descr=""/>
          <p:cNvPicPr/>
          <p:nvPr/>
        </p:nvPicPr>
        <p:blipFill>
          <a:blip r:embed="rId1"/>
          <a:stretch/>
        </p:blipFill>
        <p:spPr>
          <a:xfrm>
            <a:off x="0" y="1052640"/>
            <a:ext cx="12192120" cy="54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334800" y="692280"/>
            <a:ext cx="1080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0" y="642312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Imagem 1" descr=""/>
          <p:cNvPicPr/>
          <p:nvPr/>
        </p:nvPicPr>
        <p:blipFill>
          <a:blip r:embed="rId1"/>
          <a:stretch/>
        </p:blipFill>
        <p:spPr>
          <a:xfrm>
            <a:off x="0" y="1052640"/>
            <a:ext cx="12192120" cy="54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URB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1523880" y="206064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 EMITID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ESTOQU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674640"/>
            <a:ext cx="121921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Emitidos – RGPS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Dezembro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/2016, Novembro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/2017 e Dezembro/20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47520" y="6381720"/>
            <a:ext cx="986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sponsabilidade do Ministério do Desenvolvimento Social e Combate à F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Imagem 1" descr=""/>
          <p:cNvPicPr/>
          <p:nvPr/>
        </p:nvPicPr>
        <p:blipFill>
          <a:blip r:embed="rId1"/>
          <a:stretch/>
        </p:blipFill>
        <p:spPr>
          <a:xfrm>
            <a:off x="47520" y="963720"/>
            <a:ext cx="12144600" cy="54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334800" y="692280"/>
            <a:ext cx="1080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alor Médio Real dos Benefícios Pagos pela Previdência Social (2010 a 2017)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Média de Janeiro a Dezembro de cada ano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Em R$ de Dezembr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34800" y="1182600"/>
            <a:ext cx="10801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 valor médio real dos benefícios da Previdência Social atingiu R$ 1.365,26, na média de janeiro a dezembro de 2017, o que representou um crescimento de 11,6% em relação ao mesmo período de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6555600" y="4956120"/>
            <a:ext cx="109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Vari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+11,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"/>
          <p:cNvSpPr/>
          <p:nvPr/>
        </p:nvSpPr>
        <p:spPr>
          <a:xfrm flipV="1">
            <a:off x="3287880" y="5229000"/>
            <a:ext cx="3274920" cy="43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6"/>
          <p:cNvSpPr/>
          <p:nvPr/>
        </p:nvSpPr>
        <p:spPr>
          <a:xfrm flipH="1">
            <a:off x="7608960" y="2322360"/>
            <a:ext cx="3527280" cy="2770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334800" y="6367320"/>
            <a:ext cx="861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Inclui apenas os benefícios previdenciários e acidentá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Imagem 1" descr=""/>
          <p:cNvPicPr/>
          <p:nvPr/>
        </p:nvPicPr>
        <p:blipFill>
          <a:blip r:embed="rId1"/>
          <a:stretch/>
        </p:blipFill>
        <p:spPr>
          <a:xfrm>
            <a:off x="119160" y="1658880"/>
            <a:ext cx="11809440" cy="46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1523880" y="2492280"/>
            <a:ext cx="910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 CONCEDID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FLUX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252360" y="765000"/>
            <a:ext cx="10874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Concedidos – RG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/2016, Novembro/2017, Dezembro/2017 e Acumulado no ano (2016 e 20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252360" y="6467400"/>
            <a:ext cx="822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Imagem 1" descr=""/>
          <p:cNvPicPr/>
          <p:nvPr/>
        </p:nvPicPr>
        <p:blipFill>
          <a:blip r:embed="rId1"/>
          <a:stretch/>
        </p:blipFill>
        <p:spPr>
          <a:xfrm>
            <a:off x="0" y="1198440"/>
            <a:ext cx="12192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7) – Em R$ Bilhões de Dezembr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25440" y="6296040"/>
            <a:ext cx="663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De 2009 a 2015, ocorreu superávit na área urba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Imagem 1" descr=""/>
          <p:cNvPicPr/>
          <p:nvPr/>
        </p:nvPicPr>
        <p:blipFill>
          <a:blip r:embed="rId1"/>
          <a:stretch/>
        </p:blipFill>
        <p:spPr>
          <a:xfrm>
            <a:off x="334800" y="1341360"/>
            <a:ext cx="11522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3"/>
          <p:cNvSpPr/>
          <p:nvPr/>
        </p:nvSpPr>
        <p:spPr>
          <a:xfrm>
            <a:off x="334800" y="765000"/>
            <a:ext cx="1080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7) – Em R$ B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25440" y="6296040"/>
            <a:ext cx="663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De 2009 a 2015, ocorreu superávit na área urba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Imagem 1" descr=""/>
          <p:cNvPicPr/>
          <p:nvPr/>
        </p:nvPicPr>
        <p:blipFill>
          <a:blip r:embed="rId1"/>
          <a:stretch/>
        </p:blipFill>
        <p:spPr>
          <a:xfrm>
            <a:off x="325440" y="1270080"/>
            <a:ext cx="1145844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334800" y="692280"/>
            <a:ext cx="10730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03 a 2017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334800" y="6415200"/>
            <a:ext cx="871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–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1. PIB 2017 estimado de acordo com a Grade de Parâmetros da SPE/MF de 12/2017.   2. De 2009 a 2015, ocorreu superávit na área  urban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Imagem 1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1152216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304920" y="692280"/>
            <a:ext cx="11047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6, Novembro e Dezembro de 2017 e Acumulado no ano  (2016 e 2017) – Em R$ milhões de dezembro/2017 (INP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311040" y="6458040"/>
            <a:ext cx="788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Imagem 1" descr=""/>
          <p:cNvPicPr/>
          <p:nvPr/>
        </p:nvPicPr>
        <p:blipFill>
          <a:blip r:embed="rId1"/>
          <a:stretch/>
        </p:blipFill>
        <p:spPr>
          <a:xfrm>
            <a:off x="4680" y="1268280"/>
            <a:ext cx="12192120" cy="51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334800" y="765000"/>
            <a:ext cx="1080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Dezembro/2016, Novembro e Dezembro de 2017 e Acumulado no ano (2016 e 2017) </a:t>
            </a: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– Em R$ milhões nomina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334800" y="6453360"/>
            <a:ext cx="3097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Imagem 1" descr=""/>
          <p:cNvPicPr/>
          <p:nvPr/>
        </p:nvPicPr>
        <p:blipFill>
          <a:blip r:embed="rId1"/>
          <a:stretch/>
        </p:blipFill>
        <p:spPr>
          <a:xfrm>
            <a:off x="0" y="1628640"/>
            <a:ext cx="1219212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334800" y="641196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334800" y="765000"/>
            <a:ext cx="1080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7) – Em R$ Bilhões de dezembr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Imagem 1" descr=""/>
          <p:cNvPicPr/>
          <p:nvPr/>
        </p:nvPicPr>
        <p:blipFill>
          <a:blip r:embed="rId1"/>
          <a:stretch/>
        </p:blipFill>
        <p:spPr>
          <a:xfrm>
            <a:off x="334800" y="1341360"/>
            <a:ext cx="1152216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1-26T10:42:46Z</cp:lastPrinted>
  <dcterms:modified xsi:type="dcterms:W3CDTF">2018-02-05T12:49:17Z</dcterms:modified>
  <cp:revision>389</cp:revision>
  <dc:subject/>
  <dc:title>Demografia</dc:title>
</cp:coreProperties>
</file>